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F25-3D63-4ED2-BAC6-C2F924CA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EE35-69DA-4C80-86B4-C5676929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740-BCF9-4F8D-8EBE-311CA344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9913-0B22-4720-BBD0-1702847DE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FA8-1899-49BE-9CCC-BED707E8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A65-B964-4AB6-9A9D-00F04A82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943-F35D-41AF-BC63-8256537E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B3A-1235-4301-A15C-695D6D57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6D9F-DAC2-4505-8E93-33D65A9B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872-8307-4DE9-AB42-41556246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1135-6808-4654-8622-68748199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403-A27F-47E9-BDA0-45108738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D8DD-B58F-42E9-9012-5876B9904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84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847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866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877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ownhill911.com/pictures/img.php?img=home/Pictures-MTB-Downhill-911_901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4370"/>
            </a:gs>
            <a:gs pos="100000">
              <a:srgbClr val="66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ictures-MTB-Downhill-911_84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5238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untain bi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deee"/>
            </a:gs>
            <a:gs pos="100000">
              <a:srgbClr val="800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ictures-MTB-Downhill-911_84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781280"/>
            <a:ext cx="6248520" cy="5076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-1692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ull suspension takes the edge off while putting the power on. That's the mission behind each of Gary's full-suspension offerings. And while the technology behind both front and rear suspension continues to advance at a dizzying pa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85fe"/>
            </a:gs>
            <a:gs pos="100000">
              <a:srgbClr val="99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Pictures-MTB-Downhill-911_86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002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9320" y="90000"/>
            <a:ext cx="653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ts amazing how trials has developed and evolved over the past two decades, not only the bikes, but the techniques and levels of difficulty are unbelie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b1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Pictures-MTB-Downhill-911_87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1692360"/>
            <a:ext cx="5791320" cy="516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-1389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riday the 13th or Big Friday was a day I won’t forget soon and maybe one of the best locations I have ever shot at? We were heading to the “Blowhole” for some natural waterworks, but didn’t know that it was trials paradi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35a70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Pictures-MTB-Downhill-911_9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459080"/>
            <a:ext cx="6858000" cy="528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34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Over the years many people have asked me who would or could be the next ‘Hans’, I never knew what to reply, well, let me just say, this kid is not just a 8 time World Champ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060f06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ictures-MTB-Downhill-911_905.jpg"/>
          <p:cNvPicPr/>
          <p:nvPr/>
        </p:nvPicPr>
        <p:blipFill>
          <a:blip r:embed="rId1"/>
          <a:stretch/>
        </p:blipFill>
        <p:spPr>
          <a:xfrm>
            <a:off x="914400" y="1658880"/>
            <a:ext cx="7391520" cy="519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219320" y="14400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From sunny skies to big waves, we found everything we could have wished for, with the exception of a Hula girl. As the day went on the waves got bigger and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30001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ictures-MTB-Downhill-911_953.jpg"/>
          <p:cNvPicPr/>
          <p:nvPr/>
        </p:nvPicPr>
        <p:blipFill>
          <a:blip r:embed="rId1"/>
          <a:stretch/>
        </p:blipFill>
        <p:spPr>
          <a:xfrm>
            <a:off x="152388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ictures-MTB-Downhill-911_951.jpg"/>
          <p:cNvPicPr/>
          <p:nvPr/>
        </p:nvPicPr>
        <p:blipFill>
          <a:blip r:embed="rId2"/>
          <a:stretch/>
        </p:blipFill>
        <p:spPr>
          <a:xfrm>
            <a:off x="1219320" y="0"/>
            <a:ext cx="6705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5:19Z</dcterms:created>
  <dc:creator>764232</dc:creator>
  <dc:description/>
  <dc:language>en-US</dc:language>
  <cp:lastModifiedBy>764232</cp:lastModifiedBy>
  <dcterms:modified xsi:type="dcterms:W3CDTF">2009-03-31T15:27:00Z</dcterms:modified>
  <cp:revision>3</cp:revision>
  <dc:subject/>
  <dc:title>Slide 1</dc:title>
</cp:coreProperties>
</file>